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9D75-FB56-47DB-9304-045C651384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3737-9516-4CB8-A6F5-AECD53038C8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smic rays and solar f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raw in the back of your book the life cycle of a s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5766-35F2-45D3-912D-5D94429D9C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8AB7-9215-451D-9211-709BC3C4BC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smic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D614-C941-48DD-8CD5-69339178C7A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lar f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solar flare is a violent explosion above the suns su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large amount of energy is rele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A2D5-B3FA-47E0-B3F5-0C76CD424B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lar flares may last for 10 mins and will produce more energy than a MILLION hydrogen bom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 is a peak in this type of activity ever 10-11 yrs, during which large numbers of charged particles are released at very high sp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results in the production of a magnetic field that interacts with the earths 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19EF-D0BE-42E5-A8AC-69C1351ECB1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ly  a small amount of energy reaches the earth from a solar flare, but it is enough to interfere with radio and microwave transmi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y can also affect electrical power distribution in the national g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FFF9-1D22-42A2-83D7-F50E0574F1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0205-0FDA-4ED7-B274-873163966C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ic rays are fast-moving ionising particles from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magnetic field prevents them from reaching us because they would be very harm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flares (bursts of energy from the Sun) interfere with these satellite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F228-B6DB-4981-A6CB-2AE20E38B5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Cosmic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smic rays are not really rays at all, they are a stream of particles of ionised ato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y can range from a single proton to the nucleus of an iron atom-or lar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most common cosmic ray is a alpha particle (3protons and 2 neutr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smic rays originate in space and are produced form sourc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ther st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upernova and their re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eutron stars and black h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stant galax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3A0A-1FFB-4DF4-8C88-F4296FC88F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smic ray particles are travelling at speeds close to that of light and they have a lot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1A23-6B1A-4081-9279-0EE3034FA3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5C30-DDBF-4534-A2B9-35DE2D4114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8962-DA5A-47EE-9F78-FA03922231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37F1-EF6B-4CC3-ADF8-F9ED9328F8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EEE9-313D-4B90-B681-5269F9625A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8B02-1490-41B5-8B20-3568BF2D7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24DC-89FE-4028-BDB8-A4B6976E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4937-98A2-4541-B8C8-0C3157A7D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CA22-E2FA-4409-BC84-E19583164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DA22-5431-4890-BA12-0F59731D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64B8-56F0-428E-AE11-430E6465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1902-60D0-439F-A431-7DB65B78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5950-545B-4F85-AD43-54C9A845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35C9-4F5E-4B29-96EC-C1F6B041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0B82-BD47-4350-AEDF-20DB26C2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8227-4011-4E3E-9CB9-50CD54D3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E147-79A0-4786-93E3-6BC9D1D5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1DC4-CE02-4213-9E58-782E358E31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smic rays and solar fl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raw in the back of your book the life cycle of a s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539640" y="522360"/>
            <a:ext cx="828036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osmic r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4247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smic rays are __________ particles from the Sun, ______ and ________. The most common type of particle is a __________ particle. They interact with the Earth’s __________ field. Energy from these charged particles is converted into light which can be seen in the _______ _______ and _______ ______ called Auroras. These bright lights are caused by ________ rays streaming out from the sun and striking earths upper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345600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lar fl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3814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solar flare is a violent explosion above the suns surf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large amount of energy is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3843360" y="189000"/>
            <a:ext cx="530064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23640" y="549000"/>
            <a:ext cx="806436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lar flares may last for 10 mins and will produce more energy than a MILLION hydrogen bomb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re is a peak in this type of activity ever 10-11 yrs, during which large numbers of charged particles are released at very high sp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results in the production of a magnetic field that interacts with the earths magnetic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3240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ly  a small amount of energy reaches the earth from a solar flare, but it is enough to interfere with radio and microwave transmi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y can also affect electrical power distribution in the national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3348000" y="260280"/>
            <a:ext cx="5796000" cy="57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440" y="11430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olar flare is a ___________ above the suns surface. A large amount of _________ is relea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olar flare consists of charged particles from the ______ that travel at high speed and produce strong ________ fie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lar _______ interfere with the operation of satellites by interfering with ______________ and _______________. They also can cause ____________  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258920" y="404640"/>
            <a:ext cx="61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lar fl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474560"/>
            <a:ext cx="77724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0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mic rays are fast-moving ionising particles from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0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arth’s magnetic field prevents them from reaching us because they would be very harm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ar flares (bursts of energy from the Sun) interfere with these satellite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838080" y="632448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611280" y="189000"/>
            <a:ext cx="601956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Solar flares and Cosmic rays</a:t>
            </a:r>
            <a:br>
              <a:rPr sz="32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should lear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" dur="1" fill="hold"/>
                                  <p:tgtEl>
                                    <p:spTgt spid="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smic 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smic rays are not really rays at all, they are a stream of particles of ionised ato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y can range from a single proton to the nucleus of an iron atom-or lar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most common cosmic ray is a alpha particle (3protons and 2 neutr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smic rays originate in space and are produced form sourc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ther st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upernova and their re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eutron stars and black h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stant galax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356000" y="404640"/>
            <a:ext cx="4610160" cy="31975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440" y="475920"/>
            <a:ext cx="48942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smic ray particles are travelling at speeds close to that of light and they have a lot of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611280" y="3933720"/>
            <a:ext cx="7704000" cy="24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rays interact with the magnetic field of the earth, spiralling around the field 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ducing a concentration of cosmic rays at the north and south p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4284720" y="189000"/>
            <a:ext cx="4557600" cy="64818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250920" y="193680"/>
            <a:ext cx="3673440" cy="67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 certain nights these shifting patterns can be seen in the sk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y are called Aur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se bright lights are caused by cosmic rays streaming out from the sun and striking earths upper atm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ergy from these charged particles is converted into light and forms visible glows, rays, arcs, bands and vei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ually green but can be red or pur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Aurora_021002.mpeg" descr=""/>
          <p:cNvPicPr/>
          <p:nvPr/>
        </p:nvPicPr>
        <p:blipFill>
          <a:blip r:embed="rId1"/>
          <a:stretch/>
        </p:blipFill>
        <p:spPr>
          <a:xfrm>
            <a:off x="395280" y="490680"/>
            <a:ext cx="799308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912960" y="609480"/>
            <a:ext cx="7318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395280" y="662040"/>
            <a:ext cx="8280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539640" y="612720"/>
            <a:ext cx="8136000" cy="54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ith Johnson (c)   www.timetabler.com</dc:creator>
  <dc:description>Show Full Screen, via &lt;F5&gt;, or right-click with mouse.</dc:description>
  <cp:keywords>GCSE Physics  (c) Keith and Ann Johnson</cp:keywords>
  <dc:language>en-US</dc:language>
  <cp:lastModifiedBy>RomaK</cp:lastModifiedBy>
  <dcterms:modified xsi:type="dcterms:W3CDTF">2015-08-20T12:27:58Z</dcterms:modified>
  <cp:revision>26</cp:revision>
  <dc:subject>Physics for You Support File</dc:subject>
  <dc:title>Physics for You</dc:title>
</cp:coreProperties>
</file>